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jpeg" ContentType="image/jpeg"/>
  <Override PartName="/ppt/media/image8.png" ContentType="image/png"/>
  <Override PartName="/ppt/media/image9.png" ContentType="image/png"/>
  <Override PartName="/ppt/media/image11.wmf" ContentType="image/x-wmf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491EB-D54A-4118-B0A4-28B27770E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18D35-1861-41C8-A51F-F796C633E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70312-0544-4ED1-B097-8801568A0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5D82B-2D49-4EE1-934B-AB3229374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63861-9D22-4E80-8878-F51736578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3FCB0-999C-4F9C-BF66-3FB843A2C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0E5EC-E770-4400-B601-79BDA9EFA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8EB66-788D-4E6D-8A37-7CAEEFF2A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AB0BB-9A26-4300-BE58-F21F9BD5D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F4269-B6B0-44F2-9610-B59B3A70F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EA8F0-E45F-4EAD-BF97-BB3E461CB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B8540-69F6-4E58-A33A-F0C52831C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A99A6-B0EE-41A0-9BD4-66F4AF0C52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aos.princeton.edu/WWWPUBLIC/htdocs.pom/MATLAB/USERS.gif" TargetMode="External"/><Relationship Id="rId3" Type="http://schemas.openxmlformats.org/officeDocument/2006/relationships/image" Target="../media/image3.png"/><Relationship Id="rId4" Type="http://schemas.openxmlformats.org/officeDocument/2006/relationships/hyperlink" Target="http://www.aos.princeton.edu/WWWPUBLIC/htdocs.pom/MATLAB/PUB.gif" TargetMode="External"/><Relationship Id="rId5" Type="http://schemas.openxmlformats.org/officeDocument/2006/relationships/image" Target="../media/image4.png"/><Relationship Id="rId6" Type="http://schemas.openxmlformats.org/officeDocument/2006/relationships/hyperlink" Target="http://www.aos.princeton.edu/WWWPUBLIC/htdocs.pom/anim.html" TargetMode="External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ftp://mhi.net.ua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73880" y="2565360"/>
            <a:ext cx="7079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Tahoma"/>
              </a:rPr>
              <a:t>THE BLACK SEA NOWCASTING/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Tahoma"/>
              </a:rPr>
              <a:t>FORECASTING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924360" y="549360"/>
            <a:ext cx="934920" cy="104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483920" y="333360"/>
            <a:ext cx="550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VISUALIZATION OF OUTPUT DATA</a:t>
            </a: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128960" y="843480"/>
            <a:ext cx="644436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ahoma"/>
              </a:rPr>
              <a:t>Grid Analysis and Display System (GrA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1" i="1" lang="ru-RU" sz="1800" spc="-1" strike="noStrike">
                <a:solidFill>
                  <a:srgbClr val="333399"/>
                </a:solidFill>
                <a:latin typeface="Arial"/>
              </a:rPr>
              <a:t>http://www.iges.org/grads/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21120" y="1916280"/>
            <a:ext cx="872424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Times New Roman"/>
              </a:rPr>
              <a:t>The Grid Analysis and Display System (GrADS) is an interactive desktop tool tha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Times New Roman"/>
              </a:rPr>
              <a:t>is used for easy access, manipulation, and visualization of earth science dat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Times New Roman"/>
              </a:rPr>
              <a:t>The format of the data may be either binary, GRIB, NetCDF, or HDF-SD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Times New Roman"/>
              </a:rPr>
              <a:t>(Scientific Data Sets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Times New Roman"/>
              </a:rPr>
              <a:t>GrADS uses a 4-Dimensional data environment: longitude, latitude, vertical level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Times New Roman"/>
              </a:rPr>
              <a:t>and time. Data sets are placed within the 4-D space by use of a data descriptor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Times New Roman"/>
              </a:rPr>
              <a:t>Data may be displayed using a variety of graphical techniques: line and bar graph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333399"/>
                </a:solidFill>
                <a:latin typeface="Times New Roman"/>
              </a:rPr>
              <a:t>scatter plots, smoothed contours, shaded contours, streamlines, wind vectors, gr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Times New Roman"/>
              </a:rPr>
              <a:t>boxes, shaded grid boxes, and station model plots. Graphics may be output 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Times New Roman"/>
              </a:rPr>
              <a:t>PostScript or image forma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Times New Roman"/>
              </a:rPr>
              <a:t>GrADS has a programmable interface (scripting language) that allows for sophistic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Times New Roman"/>
              </a:rPr>
              <a:t>analysis and display applications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544400" y="1557360"/>
            <a:ext cx="637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99"/>
                </a:solidFill>
                <a:latin typeface="Arial"/>
              </a:rPr>
              <a:t>http://www.aos.princeton.edu/WWWPUBLIC/htdocs.pom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763640" y="1989000"/>
            <a:ext cx="5761080" cy="3667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"/>
          <p:cNvGraphicFramePr/>
          <p:nvPr/>
        </p:nvGraphicFramePr>
        <p:xfrm>
          <a:off x="61920" y="2552760"/>
          <a:ext cx="2730600" cy="758880"/>
        </p:xfrm>
        <a:graphic>
          <a:graphicData uri="http://schemas.openxmlformats.org/drawingml/2006/table">
            <a:tbl>
              <a:tblPr/>
              <a:tblGrid>
                <a:gridCol w="1365120"/>
                <a:gridCol w="1365480"/>
              </a:tblGrid>
              <a:tr h="75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6" name=""/>
          <p:cNvGraphicFramePr/>
          <p:nvPr/>
        </p:nvGraphicFramePr>
        <p:xfrm>
          <a:off x="61920" y="3311640"/>
          <a:ext cx="247680" cy="768240"/>
        </p:xfrm>
        <a:graphic>
          <a:graphicData uri="http://schemas.openxmlformats.org/drawingml/2006/table">
            <a:tbl>
              <a:tblPr/>
              <a:tblGrid>
                <a:gridCol w="247680"/>
              </a:tblGrid>
              <a:tr h="768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7" name=""/>
          <p:cNvSpPr/>
          <p:nvPr/>
        </p:nvSpPr>
        <p:spPr>
          <a:xfrm>
            <a:off x="61920" y="2369520"/>
            <a:ext cx="24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1920" y="2369520"/>
            <a:ext cx="24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1920" y="2369520"/>
            <a:ext cx="24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1920" y="2369520"/>
            <a:ext cx="24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1920" y="2369520"/>
            <a:ext cx="24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920" y="2369520"/>
            <a:ext cx="24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1920" y="2369520"/>
            <a:ext cx="24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1920" y="2369520"/>
            <a:ext cx="24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1920" y="2369520"/>
            <a:ext cx="24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1920" y="2369520"/>
            <a:ext cx="24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1920" y="2369520"/>
            <a:ext cx="24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1920" y="2369520"/>
            <a:ext cx="24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1920" y="2369520"/>
            <a:ext cx="24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920" y="2369520"/>
            <a:ext cx="24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1920" y="4079880"/>
          <a:ext cx="247680" cy="517680"/>
        </p:xfrm>
        <a:graphic>
          <a:graphicData uri="http://schemas.openxmlformats.org/drawingml/2006/table">
            <a:tbl>
              <a:tblPr/>
              <a:tblGrid>
                <a:gridCol w="2476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2" name=""/>
          <p:cNvSpPr/>
          <p:nvPr/>
        </p:nvSpPr>
        <p:spPr>
          <a:xfrm>
            <a:off x="2341080" y="349956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71280" y="4165560"/>
          <a:ext cx="228600" cy="365040"/>
        </p:xfrm>
        <a:graphic>
          <a:graphicData uri="http://schemas.openxmlformats.org/drawingml/2006/table">
            <a:tbl>
              <a:tblPr/>
              <a:tblGrid>
                <a:gridCol w="22860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4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987640" y="3789360"/>
            <a:ext cx="863640" cy="8636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427640" y="3860640"/>
            <a:ext cx="790560" cy="79056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5651640" y="3789360"/>
            <a:ext cx="1726920" cy="86364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1168200" y="260280"/>
            <a:ext cx="715752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a50021"/>
                </a:solidFill>
                <a:latin typeface="Times New Roman"/>
              </a:rPr>
              <a:t>THE PRINCETON OCEAN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(A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sigma coordinate, free surface, ocean model, which includ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a turbulence sub-model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1695960" y="476280"/>
            <a:ext cx="560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THE  MAIN FEATURES OF THE PO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89160" y="982800"/>
            <a:ext cx="810252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Times New Roman"/>
              </a:rPr>
              <a:t>-contains an embedded second moment turbulence closure sub-mode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Times New Roman"/>
              </a:rPr>
              <a:t>to provide vertical mixing coefficient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Times New Roman"/>
              </a:rPr>
              <a:t>-it is a sigma coordinate model in that the vertical coordinate is scaled 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Times New Roman"/>
              </a:rPr>
              <a:t>the water column depth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Times New Roman"/>
              </a:rPr>
              <a:t>-it uses an explicit scheme (for horizontal advection and diffusion) and implicit (f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Times New Roman"/>
              </a:rPr>
              <a:t>vertical diffusion) as well</a:t>
            </a:r>
            <a:r>
              <a:rPr b="1" i="1" lang="ru-RU" sz="18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i="1" lang="en-US" sz="1800" spc="-1" strike="noStrike">
                <a:solidFill>
                  <a:srgbClr val="333399"/>
                </a:solidFill>
                <a:latin typeface="Times New Roman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Times New Roman"/>
              </a:rPr>
              <a:t>-the model has a free surface and a split time step</a:t>
            </a:r>
            <a:r>
              <a:rPr b="1" i="1" lang="ru-RU" sz="18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24000" y="3933720"/>
            <a:ext cx="4005000" cy="249264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4730400" y="5468760"/>
            <a:ext cx="4243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a50021"/>
                </a:solidFill>
                <a:latin typeface="Arial"/>
              </a:rPr>
              <a:t>Transformation from rectangular ( x, y, z 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a50021"/>
                </a:solidFill>
                <a:latin typeface="Arial"/>
              </a:rPr>
              <a:t>to   sigma ( x', y', </a:t>
            </a:r>
            <a:r>
              <a:rPr b="1" lang="en-US" sz="1600" spc="-1" strike="noStrike">
                <a:solidFill>
                  <a:srgbClr val="a50021"/>
                </a:solidFill>
                <a:latin typeface="Arial"/>
              </a:rPr>
              <a:t>s</a:t>
            </a:r>
            <a:r>
              <a:rPr b="1" i="1" lang="en-US" sz="1600" spc="-1" strike="noStrike">
                <a:solidFill>
                  <a:srgbClr val="a50021"/>
                </a:solidFill>
                <a:latin typeface="Arial"/>
              </a:rPr>
              <a:t> ) coordinat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i="1" lang="en-US" sz="16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i="1" lang="en-US" sz="1600" spc="-1" strike="noStrike">
                <a:solidFill>
                  <a:srgbClr val="a50021"/>
                </a:solidFill>
                <a:latin typeface="Arial"/>
              </a:rPr>
              <a:t>x = x',  y= y',</a:t>
            </a:r>
            <a:r>
              <a:rPr b="1" lang="en-US" sz="1600" spc="-1" strike="noStrike">
                <a:solidFill>
                  <a:srgbClr val="a50021"/>
                </a:solidFill>
                <a:latin typeface="Arial"/>
              </a:rPr>
              <a:t> s</a:t>
            </a:r>
            <a:r>
              <a:rPr b="1" i="1" lang="en-US" sz="1600" spc="-1" strike="noStrike">
                <a:solidFill>
                  <a:srgbClr val="a50021"/>
                </a:solidFill>
                <a:latin typeface="Arial"/>
              </a:rPr>
              <a:t> =(z-h)/(H+h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908000" y="1197000"/>
            <a:ext cx="4969080" cy="300816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1103040" y="281160"/>
            <a:ext cx="615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THE BLACK SEA CIRCULATION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31840" y="4437000"/>
            <a:ext cx="87105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The maximum depth is equal to 2150 m.  The area is covered with the gri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which has space step of 4.8 km (236 x 130 meshes). The model has 36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non-uniformly spaced levels in s -coordinates. Time step for the internal mod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is equal to 10 min, and for external – 6 s, so 1 day consists of 144 time step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of internal mod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2916360" y="981000"/>
            <a:ext cx="4105080" cy="264024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0" y="3429000"/>
            <a:ext cx="4500720" cy="290988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3"/>
          <a:stretch/>
        </p:blipFill>
        <p:spPr>
          <a:xfrm>
            <a:off x="4500720" y="3573360"/>
            <a:ext cx="4643280" cy="274968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755640" y="189000"/>
            <a:ext cx="76280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ahoma"/>
              </a:rPr>
              <a:t>METEOROLOGICAL FIELDS USED FOR FOREC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Tahoma"/>
              </a:rPr>
              <a:t>(boundary conditions on the surfac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2239200" y="189000"/>
            <a:ext cx="4384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Tahoma"/>
              </a:rPr>
              <a:t>S</a:t>
            </a:r>
            <a:r>
              <a:rPr b="1" lang="en-US" sz="2400" spc="-1" strike="noStrike">
                <a:solidFill>
                  <a:srgbClr val="a50021"/>
                </a:solidFill>
                <a:latin typeface="Tahoma"/>
              </a:rPr>
              <a:t>ATELLITE</a:t>
            </a:r>
            <a:r>
              <a:rPr b="1" lang="ru-RU" sz="2400" spc="-1" strike="noStrike">
                <a:solidFill>
                  <a:srgbClr val="a50021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a50021"/>
                </a:solidFill>
                <a:latin typeface="Tahoma"/>
              </a:rPr>
              <a:t>ALTIMETER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403280" y="907920"/>
            <a:ext cx="6337440" cy="41562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893880" y="5734080"/>
            <a:ext cx="7268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Tahoma"/>
              </a:rPr>
              <a:t>Tracks of T/P and Jason (black points), ERS1,2 EnviSAT (red point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i="1" lang="en-US" sz="1800" spc="-1" strike="noStrike">
                <a:solidFill>
                  <a:srgbClr val="333399"/>
                </a:solidFill>
                <a:latin typeface="Tahoma"/>
              </a:rPr>
              <a:t>and GFO (blue points) for the Black Sea area</a:t>
            </a:r>
            <a:r>
              <a:rPr b="0" i="1" lang="ru-RU" sz="18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39920" y="260280"/>
            <a:ext cx="441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ahoma"/>
              </a:rPr>
              <a:t>SEA SURFACE TEMPER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1116000" y="836640"/>
            <a:ext cx="7058160" cy="467028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632520" y="5661000"/>
            <a:ext cx="7951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Tahoma"/>
              </a:rPr>
              <a:t>(Images of </a:t>
            </a:r>
            <a:r>
              <a:rPr b="1" i="1" lang="en-GB" sz="1800" spc="-1" strike="noStrike">
                <a:solidFill>
                  <a:srgbClr val="333399"/>
                </a:solidFill>
                <a:latin typeface="Tahoma"/>
              </a:rPr>
              <a:t>Very High Resolution Radiometer (AVHRR), NOAA satellit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i="1" lang="en-GB" sz="1800" spc="-1" strike="noStrike">
                <a:solidFill>
                  <a:srgbClr val="333399"/>
                </a:solidFill>
                <a:latin typeface="Tahoma"/>
              </a:rPr>
              <a:t>The data are received and processed in Marine Hydrophysical Institu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i="1" lang="en-GB" sz="1800" spc="-1" strike="noStrike">
                <a:solidFill>
                  <a:srgbClr val="333399"/>
                </a:solidFill>
                <a:latin typeface="Tahoma"/>
              </a:rPr>
              <a:t>The final product has space resolution of about one kilometre.</a:t>
            </a:r>
            <a:r>
              <a:rPr b="1" i="1" lang="en-US" sz="1800" spc="-1" strike="noStrike">
                <a:solidFill>
                  <a:srgbClr val="333399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23400" y="0"/>
            <a:ext cx="8701560" cy="68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STEERING  PARAME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Times New Roman"/>
              </a:rPr>
              <a:t>The most essential changeable parameters are contained in the file “param.txt”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Times New Roman"/>
              </a:rPr>
              <a:t>“</a:t>
            </a:r>
            <a:r>
              <a:rPr b="1" lang="en-US" sz="1600" spc="-1" strike="noStrike">
                <a:solidFill>
                  <a:srgbClr val="333399"/>
                </a:solidFill>
                <a:latin typeface="Times New Roman"/>
              </a:rPr>
              <a:t>time” – sets the initial time moment (time=0.0 corresponds to 1Jan1992 00hr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Times New Roman"/>
              </a:rPr>
              <a:t>“</a:t>
            </a:r>
            <a:r>
              <a:rPr b="1" lang="en-US" sz="1600" spc="-1" strike="noStrike">
                <a:solidFill>
                  <a:srgbClr val="333399"/>
                </a:solidFill>
                <a:latin typeface="Times New Roman"/>
              </a:rPr>
              <a:t>nread” - restart parameter: if nread=0 then run begins from initial fields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333399"/>
                </a:solidFill>
                <a:latin typeface="Times New Roman"/>
              </a:rPr>
              <a:t>if nread=1 then from intermediate fields, which are written in the file “restart”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Times New Roman"/>
              </a:rPr>
              <a:t>“</a:t>
            </a:r>
            <a:r>
              <a:rPr b="1" lang="en-US" sz="1600" spc="-1" strike="noStrike">
                <a:solidFill>
                  <a:srgbClr val="333399"/>
                </a:solidFill>
                <a:latin typeface="Times New Roman"/>
              </a:rPr>
              <a:t>idays” - number of days to run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Times New Roman"/>
              </a:rPr>
              <a:t>“</a:t>
            </a:r>
            <a:r>
              <a:rPr b="1" lang="en-US" sz="1600" spc="-1" strike="noStrike">
                <a:solidFill>
                  <a:srgbClr val="333399"/>
                </a:solidFill>
                <a:latin typeface="Times New Roman"/>
              </a:rPr>
              <a:t>irest” - interval (in time steps) of writing “restart” fil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Times New Roman"/>
              </a:rPr>
              <a:t>“</a:t>
            </a:r>
            <a:r>
              <a:rPr b="1" lang="en-US" sz="1600" spc="-1" strike="noStrike">
                <a:solidFill>
                  <a:srgbClr val="333399"/>
                </a:solidFill>
                <a:latin typeface="Times New Roman"/>
              </a:rPr>
              <a:t>ioutint” -  interval (in time steps) of writing “out.dat” file and displaying on the scr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333399"/>
                </a:solidFill>
                <a:latin typeface="Times New Roman"/>
              </a:rPr>
              <a:t>some integral paramete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Times New Roman"/>
              </a:rPr>
              <a:t>“</a:t>
            </a:r>
            <a:r>
              <a:rPr b="1" lang="en-US" sz="1600" spc="-1" strike="noStrike">
                <a:solidFill>
                  <a:srgbClr val="333399"/>
                </a:solidFill>
                <a:latin typeface="Times New Roman"/>
              </a:rPr>
              <a:t>ioutf” -  the frequency or writing output fields in the folder “12”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Times New Roman"/>
              </a:rPr>
              <a:t>“</a:t>
            </a:r>
            <a:r>
              <a:rPr b="1" lang="en-US" sz="1600" spc="-1" strike="noStrike">
                <a:solidFill>
                  <a:srgbClr val="333399"/>
                </a:solidFill>
                <a:latin typeface="Times New Roman"/>
              </a:rPr>
              <a:t>nsst” - assimilation of SST flag, if nsst=1 then you run the model with assimilation of SST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333399"/>
                </a:solidFill>
                <a:latin typeface="Times New Roman"/>
              </a:rPr>
              <a:t>if nsst=0 then withou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Times New Roman"/>
              </a:rPr>
              <a:t>“</a:t>
            </a:r>
            <a:r>
              <a:rPr b="1" lang="en-US" sz="1600" spc="-1" strike="noStrike">
                <a:solidFill>
                  <a:srgbClr val="333399"/>
                </a:solidFill>
                <a:latin typeface="Times New Roman"/>
              </a:rPr>
              <a:t>nas” - assimilation of altimetry flag, if nas=1 then you run the model with assimilation 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Times New Roman"/>
              </a:rPr>
              <a:t>if nas=0 then withou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Times New Roman"/>
              </a:rPr>
              <a:t>“</a:t>
            </a:r>
            <a:r>
              <a:rPr b="1" lang="en-US" sz="1600" spc="-1" strike="noStrike">
                <a:solidFill>
                  <a:srgbClr val="333399"/>
                </a:solidFill>
                <a:latin typeface="Times New Roman"/>
              </a:rPr>
              <a:t>nest” - flag for writing data for the nesting model, if nest=1 then file is written, if nest=0 then no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Times New Roman"/>
              </a:rPr>
              <a:t>“</a:t>
            </a:r>
            <a:r>
              <a:rPr b="1" lang="en-US" sz="1600" spc="-1" strike="noStrike">
                <a:solidFill>
                  <a:srgbClr val="333399"/>
                </a:solidFill>
                <a:latin typeface="Times New Roman"/>
              </a:rPr>
              <a:t>lnest” - the frequency or writing fields for the nested mode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607400" y="712800"/>
            <a:ext cx="5135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INSTALLATION THE BLACK SE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BASIN-SCALE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ftp://mhi.net.ua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name:  rat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ssword:     “nj&gt;hfHfny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4T14:19:46Z</dcterms:created>
  <dc:creator>Toshiba</dc:creator>
  <dc:description/>
  <dc:language>en-US</dc:language>
  <cp:lastModifiedBy>Toshiba</cp:lastModifiedBy>
  <dcterms:modified xsi:type="dcterms:W3CDTF">2007-04-26T04:08:39Z</dcterms:modified>
  <cp:revision>5</cp:revision>
  <dc:subject/>
  <dc:title>Слайд 1</dc:title>
</cp:coreProperties>
</file>